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79B9-57D2-47B8-A10F-DE19C92B1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4972-DE5A-4981-8CB4-267608128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F345-542B-4EFD-83C0-A9C683D5E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8DF5-A88F-4E6F-B7F5-A53C8EE4B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AC81-67C7-48D1-BCD2-6284A2F7E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F7C9-86DF-49D0-BBC5-FBFF9410F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86C2-0449-48A2-9316-431A289B8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BEAF-046F-4ECE-A6A1-DF15BC34E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02E9-F419-498D-B0E7-CF565AF8A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133B-F604-43F9-ADD7-98CBC7DD8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0818-5D02-46E5-9CE2-BA5770DDD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1270-B799-4D00-9EC4-23C654117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2564-0D0C-4451-AB53-77F5D58AA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547-A3F5-453B-AA94-E53FBB51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FA1-AE6D-4E28-A530-BD87BBA6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85E-E66E-4544-8337-610B6248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4B3-90C0-4869-8152-E14414D7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B0B-C678-4272-BE38-B7B875D6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B3F-4DE0-4803-B84B-DF993130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76C-07F0-4D45-8B15-5B84B5EA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50C-7CC4-47B7-AC20-129332F1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3BD-8945-4F8D-8A54-B88C41D4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FEF-02D9-4AB9-B1DA-B4D92F34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25A-B4A4-44BD-A147-FAF752FD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04B7-F0C6-4828-80EC-7991D1CD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3E7C-B0CB-471F-9E6A-7CE76DB98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7/Killerwhales_jumpin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7/Killerwhales_jumpin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6/Bottlenose_Dolphin_KSC04pd017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s to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 made famous by the Weavers adapted for English language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tune of “The Lion Sleep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File:Killerwhales jump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0240" y="1600200"/>
            <a:ext cx="31435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o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eacefu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seagull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waits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La Jolla-sea gull"/>
          <p:cNvPicPr/>
          <p:nvPr/>
        </p:nvPicPr>
        <p:blipFill>
          <a:blip r:embed="rId1"/>
          <a:stretch/>
        </p:blipFill>
        <p:spPr>
          <a:xfrm>
            <a:off x="1905120" y="1447920"/>
            <a:ext cx="541008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ocean, the deep 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486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3333ff"/>
                </a:solidFill>
                <a:uFillTx/>
                <a:latin typeface="Arial"/>
              </a:rPr>
              <a:t>sting ray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3333ff"/>
                </a:solidFill>
                <a:uFillTx/>
                <a:latin typeface="Arial"/>
              </a:rPr>
              <a:t>glides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sting ray 2"/>
          <p:cNvPicPr/>
          <p:nvPr/>
        </p:nvPicPr>
        <p:blipFill>
          <a:blip r:embed="rId1"/>
          <a:stretch/>
        </p:blipFill>
        <p:spPr>
          <a:xfrm>
            <a:off x="1676520" y="1447920"/>
            <a:ext cx="56386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ocean, the deep 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seaweed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sways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La Jolla kelp 1"/>
          <p:cNvPicPr/>
          <p:nvPr/>
        </p:nvPicPr>
        <p:blipFill>
          <a:blip r:embed="rId1"/>
          <a:stretch/>
        </p:blipFill>
        <p:spPr>
          <a:xfrm>
            <a:off x="2438280" y="1295280"/>
            <a:ext cx="4191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c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res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3333ff"/>
                </a:solidFill>
                <a:uFillTx/>
                <a:latin typeface="Arial"/>
              </a:rPr>
              <a:t>Orca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3333ff"/>
                </a:solidFill>
                <a:uFillTx/>
                <a:latin typeface="Arial"/>
              </a:rPr>
              <a:t>swims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File:Killerwhales jump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144792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ce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p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cea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dolphins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jump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File:Bottlenose Dolphin KSC04pd01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295280"/>
            <a:ext cx="5486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c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e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File:Gray whale.jpg"/>
          <p:cNvPicPr/>
          <p:nvPr/>
        </p:nvPicPr>
        <p:blipFill>
          <a:blip r:embed="rId1"/>
          <a:stretch/>
        </p:blipFill>
        <p:spPr>
          <a:xfrm>
            <a:off x="1295280" y="1219320"/>
            <a:ext cx="6477120" cy="3897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The </a:t>
            </a:r>
            <a:r>
              <a:rPr b="0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whale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comes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up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shore, the peaceful sh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people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walk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File:Beach Monterey.JPG"/>
          <p:cNvPicPr/>
          <p:nvPr/>
        </p:nvPicPr>
        <p:blipFill>
          <a:blip r:embed="rId1"/>
          <a:stretch/>
        </p:blipFill>
        <p:spPr>
          <a:xfrm>
            <a:off x="2057400" y="1371600"/>
            <a:ext cx="47242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c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a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seals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rest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File:Sealuk.jpg"/>
          <p:cNvPicPr/>
          <p:nvPr/>
        </p:nvPicPr>
        <p:blipFill>
          <a:blip r:embed="rId1"/>
          <a:stretch/>
        </p:blipFill>
        <p:spPr>
          <a:xfrm>
            <a:off x="1981080" y="1447920"/>
            <a:ext cx="48769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c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res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c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shark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glides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File:Horn shark.JPG"/>
          <p:cNvPicPr/>
          <p:nvPr/>
        </p:nvPicPr>
        <p:blipFill>
          <a:blip r:embed="rId1"/>
          <a:stretch/>
        </p:blipFill>
        <p:spPr>
          <a:xfrm>
            <a:off x="2133720" y="1371600"/>
            <a:ext cx="480060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beach, the sandy b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people rest to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300px-LaJollaShores"/>
          <p:cNvPicPr/>
          <p:nvPr/>
        </p:nvPicPr>
        <p:blipFill>
          <a:blip r:embed="rId1"/>
          <a:stretch/>
        </p:blipFill>
        <p:spPr>
          <a:xfrm>
            <a:off x="1828800" y="1295280"/>
            <a:ext cx="52578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ide poo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hall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ide p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starfish moves slow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starfish 2"/>
          <p:cNvPicPr/>
          <p:nvPr/>
        </p:nvPicPr>
        <p:blipFill>
          <a:blip r:embed="rId1"/>
          <a:stretch/>
        </p:blipFill>
        <p:spPr>
          <a:xfrm>
            <a:off x="1905120" y="1371600"/>
            <a:ext cx="5333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2:53:04Z</dcterms:created>
  <dc:creator>118691</dc:creator>
  <dc:description/>
  <dc:language>en-US</dc:language>
  <cp:lastModifiedBy>122790</cp:lastModifiedBy>
  <dcterms:modified xsi:type="dcterms:W3CDTF">2011-07-07T20:26:20Z</dcterms:modified>
  <cp:revision>14</cp:revision>
  <dc:subject/>
  <dc:title>Slide 1</dc:title>
</cp:coreProperties>
</file>